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53D-8437-4AC9-A192-19926031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F6C3-0A6C-4AB4-943C-6DC01EF2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1675-0B2D-441B-8AD5-6CB4A4F4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C412-F311-4219-9620-3A8FCD76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625D-5A51-44D6-A0C1-8B63077D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92D5-F8A4-475E-A1D8-E92AD5FC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13B-A9B4-401A-9D13-D581A864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707A-E0F7-4E44-89E9-180C6194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507B-C9FE-4202-9C00-BB38D1C1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8BC-2F46-4BDE-B15D-3F8B1510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B273-CAF4-4ECB-81F9-44C444B7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A9E-C369-4734-BA3B-A2E8A159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FA2A-A852-4F0A-9388-184EFC38AD7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3860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شائعة الاستخد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خام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674E-275F-4E08-879B-8C3F4618F6F1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73920" y="1916280"/>
            <a:ext cx="358920" cy="1728720"/>
          </a:xfrm>
          <a:prstGeom prst="upDownArrow">
            <a:avLst>
              <a:gd name="adj1" fmla="val 50000"/>
              <a:gd name="adj2" fmla="val 95883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27664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6920" y="3679920"/>
            <a:ext cx="309744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3139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– توزيعات الأسهم الممتا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توسط المرجح لعدد الاسهم العا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3822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974880" y="4076640"/>
            <a:ext cx="338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192564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A7A-F248-4194-AE52-F34CB31DC0CE}" type="slidenum">
              <a:t>10</a:t>
            </a:fld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صافي الربح إلى الفوائ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قبل الفوائ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وائد المستحق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مجموع الأصو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8924-F814-40ED-BF7C-55A85A963223}" type="slidenum">
              <a:t>11</a:t>
            </a:fld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6920" y="4832280"/>
            <a:ext cx="331308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خصوم طويلة الأجل إلى    الخصوم طويلة الأجل مضافاً إليها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طويلة الأج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خصوم طويلة الأجل + حقوق الملك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C974-B358-4D6F-B0F5-CE170224B6D6}" type="slidenum">
              <a:t>12</a:t>
            </a:fld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84280" y="1838520"/>
            <a:ext cx="17762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738840" y="1838520"/>
            <a:ext cx="17456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 fontScale="92000"/>
          </a:bodyPr>
          <a:p>
            <a:pPr marL="315360" indent="-3153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 (سداد الالتزامات قصير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3260880"/>
            <a:ext cx="1847880" cy="314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257640"/>
            <a:ext cx="2016000" cy="3124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المبيع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إجمالي الأ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08360" y="1793880"/>
            <a:ext cx="1764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الوفاء بالديون (طويل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68840" y="3260880"/>
            <a:ext cx="1847880" cy="3146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الى مجموع الا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إ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فائد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اعباء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92280"/>
            <a:ext cx="7848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رئي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708280"/>
            <a:ext cx="142920" cy="433440"/>
          </a:xfrm>
          <a:prstGeom prst="downArrow">
            <a:avLst>
              <a:gd name="adj1" fmla="val 50000"/>
              <a:gd name="adj2" fmla="val 758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180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79720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1811160"/>
            <a:ext cx="1763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27813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79760" y="3259080"/>
            <a:ext cx="1847880" cy="3146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453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8252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8BB-9CE6-4A95-9AC2-7D4EDE29975A}" type="slidenum">
              <a:t>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02000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47280" y="177336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-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262160" y="515772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7150-EF41-48D1-8FD7-8C1720B63D41}" type="slidenum">
              <a:t>3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دية في الصندوق والبنوك + استثمارات في اوراق مال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06520" y="198900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– 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582B-C21C-41B1-850A-6321B96F4E96}" type="slidenum">
              <a:t>4</a:t>
            </a:fld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9080" y="1447920"/>
            <a:ext cx="273672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صافي المبيعات الآج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4065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حص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7744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7201-D41E-4377-A5CB-84289737EE1B}" type="slidenum">
              <a:t>5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1447920"/>
            <a:ext cx="273708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907920"/>
            <a:ext cx="403884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كلفة البضاعة المبا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186920" y="191628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108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4832280"/>
            <a:ext cx="280836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خز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292640"/>
            <a:ext cx="403884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108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6C1D-85A9-4956-8FA4-5FEFD5988B61}" type="slidenum">
              <a:t>6</a:t>
            </a:fld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متدا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20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2589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رأس المال العا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58920" y="5183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3D4A-285C-420F-A56B-DCB676FB7838}" type="slidenum">
              <a:t>7</a:t>
            </a:fld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إجمالي الأصول (إجمالي الاستثما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3CF0-7EE8-48F3-BC2D-21D3738EF053}" type="slidenum">
              <a:t>8</a:t>
            </a:fld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من النشاط الرئيس إلى صافي المبيع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دخل من العمليات الرئيس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حقوق المساهم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F76C-F678-4E0C-9C92-03778B667C17}" type="slidenum">
              <a:t>9</a:t>
            </a:fld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08:19:27Z</dcterms:created>
  <dc:creator>**</dc:creator>
  <dc:description/>
  <dc:language>en-US</dc:language>
  <cp:lastModifiedBy>****</cp:lastModifiedBy>
  <dcterms:modified xsi:type="dcterms:W3CDTF">2003-12-07T23:54:56Z</dcterms:modified>
  <cp:revision>23</cp:revision>
  <dc:subject/>
  <dc:title>المؤشرات المالية</dc:title>
</cp:coreProperties>
</file>